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550-4EEA-41DC-ADB6-B564D97C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856-B6AD-4002-BFD3-18F97DBB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E93-90E4-42C2-B9C0-B862A97C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B3C-D924-4504-B24D-C4738877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6250-FF0D-4B9D-916A-C29A1E89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7997-4216-4E85-823E-1772351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6443-4CF4-476A-8C44-97ED7E29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33D1-404D-4964-AB2A-2EBEA55D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DF2A-DE9C-4D58-BCDF-C162780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E014-8DE4-4FCB-A9C1-E31CA49B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15BB-0F15-4DC8-A1AC-B562EC3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0F3-7353-4960-9579-4F6644D7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809C-869F-4FC0-B5C8-93543C76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EE04-59B4-4F48-9F7B-D71CAB7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65AC-3134-464B-98BD-D82FFD01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32D-79CF-436C-9EC0-D47D0BB3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DC2D-AECB-4F7D-81D3-D3A8A909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CA6E7-EFAE-4049-A44F-71F4D152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3F24E-514E-4C85-B216-B4B85109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8A4DC-3067-4013-A242-8046F805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EAE7D-D7ED-4C32-AE23-E82C3875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136B7-FAA7-4BE9-9C7C-57CDAB18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DD5-8782-4A4B-8894-A372FCC5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6F634-5872-4386-BB2B-02D43390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902E7-12C7-41DA-8AF6-009026DA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E2842-EF7A-4E93-BCF2-E05F9F5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FA485-11EB-4719-959D-98B45AA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9CA87-E2A3-4E25-84FB-C5640427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5CF40-967B-4F05-AD39-7DD0649B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AB752-E7D5-4482-847C-E56CB695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6C28-6E6F-4BD6-8D21-92622EC9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9E2E9-1586-4698-94C9-1DF14144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4B13-818E-4B1A-9939-FFD18C62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D35-BAC9-4688-8344-E695DEA9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6A98-E364-498C-A59B-32B66884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47A5-EEF1-49E1-93FB-1C6AD277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BD1AF-968E-43D8-804E-61957EE0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7406-20E7-494D-97A5-4672D08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0A61-D0BF-4390-A27D-9EF32469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CD35-C37B-4C01-AA9B-346EF7D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8F91-C4E2-4EC0-B363-3AEB52AB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EC2F9-E55C-4CE9-A1FF-E5F5CED2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C4D14-026D-4183-BC06-D3F18441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DD0C5-F95D-4026-87DE-4D8C4F2B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3BA-5E20-4BF6-A201-CDB1FA5B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31DA1-EE2B-4C56-9CC5-A325E227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A49C6-405D-4E0D-9924-63B2A93C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B0B7E-6BB7-4A74-9D7F-668DD044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3C314-2DB5-46FC-A030-B3D14DD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E6F18-1C3A-4C96-A825-9C6B324E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A0EB9-7EAA-451D-B969-305FC2F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96075-47D7-48AF-80CA-F3738FE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43146-A97A-4991-9145-0FAF6AAC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789CA-7F07-438C-880F-E7C58DCA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0E687-81D4-4704-8DCD-BF9FA7EC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7DC-F8FD-4732-93EB-179299E9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3C742-4C51-4DD2-B38E-BED427F6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F58A0-C1F5-47C9-9964-27DAF159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023AA-7BB6-4B7B-BC66-69C68F02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15982-8B54-4BF4-BD33-50C29505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21021-7D7E-47FE-B216-022590C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1517E-892E-482C-8BAD-30DE80ED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F89E7-4EF4-41E7-8947-41D2F4FE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1AD7B-CA54-4167-A1DB-D19DE6F2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35954-E51A-4FA7-A84D-183B15F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94AD5-964F-4DAA-90F9-B13C2E31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C1C-9583-4CE7-81C2-61359CC6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721BC-0862-49EC-AD2A-C6B0F4D1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70E43-734C-40E4-B2E8-FFC1CF1F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FF110-A304-44CA-8E91-C308F38D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0453F-7244-4F3B-9912-5B0F20A4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28FEF-AF53-4B1E-9717-BC7033C7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28A90-3737-4A82-B814-90D3A042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DD5B3-5B7B-4EDC-A131-F6C56F44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325C6-6BD0-4879-97DC-FB240E5A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1E382-B590-43AA-A630-FBC9524F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45087-6541-499A-BFDF-FD398398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AD7-038A-42CE-A15C-CF4F0164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2B18E-A548-4353-895B-2C7E73A0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05C72-9C18-4F1F-BFAA-F604EA52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F28ED-A7AF-4ECF-8373-209270A7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6F202-CD4F-4E2F-8B9C-47AC5CFD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76335-1980-4DC3-8AFE-7CDC9068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84B-6E4A-4C92-A628-532965B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7D04-AC2D-4839-BF4C-456D3825AE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5E98-340F-4A1C-A129-9BA132E5066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BE0-AC17-47CC-A4B6-0301453E2B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9793-4B31-4244-8D79-B7A6E193F4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6C5B-1E37-445C-B458-38F8A05CEB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6C2-16E1-4777-9EDE-C9713DAA7C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9B3-A5CC-4DC2-80BA-91CCD19C417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p.yimg.com/ca/I/blaircandy_2073_58700389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cfc8"/>
                </a:solidFill>
                <a:latin typeface="Goudy Stout"/>
              </a:rPr>
              <a:t>BIGGEST</a:t>
            </a:r>
            <a:r>
              <a:rPr b="1" lang="en-US" sz="3000" spc="-1" strike="noStrike">
                <a:solidFill>
                  <a:srgbClr val="f8cfc8"/>
                </a:solidFill>
                <a:latin typeface="Goudy Stout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 Black"/>
              </a:rPr>
              <a:t>Cameron Hartley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Rectangle 3" descr=""/>
          <p:cNvPicPr/>
          <p:nvPr/>
        </p:nvPicPr>
        <p:blipFill>
          <a:blip r:embed="rId1"/>
          <a:stretch/>
        </p:blipFill>
        <p:spPr>
          <a:xfrm>
            <a:off x="3213000" y="2255760"/>
            <a:ext cx="3200400" cy="1193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cam.JPG"/>
          <p:cNvPicPr/>
          <p:nvPr/>
        </p:nvPicPr>
        <p:blipFill>
          <a:blip r:embed="rId2"/>
          <a:stretch/>
        </p:blipFill>
        <p:spPr>
          <a:xfrm>
            <a:off x="5334120" y="4419720"/>
            <a:ext cx="2336760" cy="1752480"/>
          </a:xfrm>
          <a:prstGeom prst="rect">
            <a:avLst/>
          </a:prstGeom>
          <a:ln w="9360">
            <a:solidFill>
              <a:srgbClr val="7598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RESEARCH QUES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Bubble gum blows the biggest bubble?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HYPOTH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think Bubblicious is going to blow the biggest  bubble because it is a bigger piece and is sof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ERIA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used three kinds of bubble gum. They are Bazooka, Trident and Bubbliciou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CEDUR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chewed a piece of each brand of bubble gum and blew four bubbles and measured the bubbles to see which brand blows the biggest bubb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measured the bubbles by using a string and wrapping it around the bubble to measure the circumference.  I then measured the string in inches using a measuring tap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took the four bubbles from each brand and added the size and divided the number by four to get an average size for each bra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COL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62120" y="1828800"/>
          <a:ext cx="7772400" cy="29084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ubblelic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id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azo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5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0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7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0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5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5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5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vg=6.1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vg=5.4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vg=4.6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COL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LTS AND CONCLUS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bbalicous was the biggest its avg is 6.10 and tridents is 5.40 and Bazookas is 4.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UBBLICIOUS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Content Placeholder 3" descr="cam.JPG"/>
          <p:cNvPicPr/>
          <p:nvPr/>
        </p:nvPicPr>
        <p:blipFill>
          <a:blip r:embed="rId1"/>
          <a:stretch/>
        </p:blipFill>
        <p:spPr>
          <a:xfrm>
            <a:off x="4191120" y="3048120"/>
            <a:ext cx="4087800" cy="3276360"/>
          </a:xfrm>
          <a:prstGeom prst="rect">
            <a:avLst/>
          </a:prstGeom>
          <a:ln w="9360">
            <a:solidFill>
              <a:srgbClr val="000000">
                <a:alpha val="59000"/>
              </a:srgbClr>
            </a:solidFill>
            <a:miter/>
          </a:ln>
        </p:spPr>
      </p:pic>
      <p:pic>
        <p:nvPicPr>
          <p:cNvPr id="371" name="Picture 2" descr="Bubblicious Bubble Gum 18c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600200"/>
            <a:ext cx="374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21:41:53Z</dcterms:created>
  <dc:creator>BPS</dc:creator>
  <dc:description/>
  <dc:language>en-US</dc:language>
  <cp:lastModifiedBy>BPS</cp:lastModifiedBy>
  <dcterms:modified xsi:type="dcterms:W3CDTF">2009-11-25T19:19:59Z</dcterms:modified>
  <cp:revision>20</cp:revision>
  <dc:subject/>
  <dc:title>Biggest Bubble</dc:title>
</cp:coreProperties>
</file>